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54D-800E-4192-B30D-9DBEBB18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382-95FD-44FF-AB28-1904FCB2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739-5888-4F12-9E1C-16DCF0A0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E69-1F62-4FD5-B67B-4CFC7B84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1DC-A122-4848-9EF6-5721ED6F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587-6FF8-4BCB-9801-CD4A7AE9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8CD-DA1F-4379-A767-58F8355A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02A-6184-44A2-B8DA-DF849E6C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AB0-B44B-4A12-94AC-7AD8E419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86E-DA01-46C8-80D0-A213FF1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1AF-D06B-4165-BB9D-E3F9868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C82-AFA1-43AB-9BAD-B239FA0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C8FD-F764-4808-88BB-2925DAD65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120" y="1218600"/>
            <a:ext cx="779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Where have we come fr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43720"/>
            <a:ext cx="91440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fficulty shifting from ICT being computer based skills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problem based thinking skills. (most appropriate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ol to enhance higher order think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07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s are key pieces of equipment in any school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but they are just one part of the overall pi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fined ICT in the classroom (Term 4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CT is not only computer skills but Key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jor discussion and modification to existing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amples of Inquiry Learning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late Term 4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iggest problem being ‘the big idea’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uided inquiry Learning with saturation as motivation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stablishing a Inquiry Model which fits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6720" y="2514240"/>
            <a:ext cx="55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118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Yea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733920"/>
            <a:ext cx="2743200" cy="2514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plementation of Inquiry Model int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aptation of model to support senior and junio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going development of planning templates to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assimilate to the inquiry model and the revis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urricul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isit to other schools ‘best practice’ to see Inquiry i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tion and to share with other teachers and their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.A.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repapa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iop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.O.D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earnings the 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uilding a schools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ittlies leading the way 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– Pauline McLeod, Rosemary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’s about inquiry and my journey  – Miriam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eb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oors to Disneyland –Donna D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05"/>
              <a:buBlip>
                <a:blip r:embed="rId11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line LM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choolzone/myclasses/el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rnard Pett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cept/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uestioning/quality 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sessment of Key 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.O.P.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larified authentic learning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later simplified planning templates to fit the SOLO model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put’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‘process’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‘outpu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05120" y="4038120"/>
            <a:ext cx="363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Where nex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ting ourselves to the infusion of ICT means committing ourselves to providing problem-base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based learning has four critical components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ulla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blem must be open-ended, not having one right answer or one right method of arriving at the ans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ust be authentic, related to real-lif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ust be complex, encompassing a variety of skills and a breadth of content rather than focusing on a narrow set of skills or conten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hould be assessed through a rubric, thereby providing students with a "roadmap" to success as they assess their progress and determine what they need to do to move to more expert levels of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39720"/>
            <a:ext cx="9144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eachers using topic based integrated teaching and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earning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ariety of skills and knowledge levels of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 overall awareness of what the contract was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ility beyond the ICT PD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wareness of new approaches and developments and the impact in the classroom, both from the perspective of the teacher and the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ful adaptation when relevant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Staff Learning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to support Inquiry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Lear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Staff Learning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Best Practice in School staf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ing other schools and teachers to look at and discuss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professional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effectiveness of the Inquiry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Year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CT Focu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ing Software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D day with Facilitator on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veloping rubric on computer software skil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ach year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CT PD Facilitator -Mike Whit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ritten language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ing a word processor to draft and 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ing images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ills, photographs, digital and conventional in the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owerPoint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telling and presentation of unit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39000"/>
            <a:ext cx="914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marL="436680" indent="-25092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rea Facilitator -Jill Hammonds  (Dec 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scussion and group work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t students need’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this affects the way they learn’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e developed an outline of the above according to what fitted our beliefs for our schoo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-250920"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our/my current ICT practi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 practice best suits our students’ future role as lifelong learn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es incorporating this best practice meet our current school policies and government direc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357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future focus with regards to professional development, implementation and technologies do we need to employ in our IC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42880"/>
                <a:tab algn="l" pos="62856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 Focu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43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Year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.O.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aff exposed to the idea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quir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nriching the Inquir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.A.U.N.C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formation Literacy Continuum across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earning Centred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nking Hats/BIG 6/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riefly linking unit plan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36:43Z</dcterms:created>
  <dc:creator>adminstrator</dc:creator>
  <dc:description/>
  <dc:language>en-US</dc:language>
  <cp:lastModifiedBy>St Joseph's</cp:lastModifiedBy>
  <dcterms:modified xsi:type="dcterms:W3CDTF">2008-06-18T01:16:32Z</dcterms:modified>
  <cp:revision>36</cp:revision>
  <dc:subject/>
  <dc:title>Slide 1</dc:title>
</cp:coreProperties>
</file>